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4.png" ContentType="image/png"/>
  <Override PartName="/ppt/media/image10.png" ContentType="image/png"/>
  <Override PartName="/ppt/media/image2.wmf" ContentType="image/x-wmf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E8D-84A0-45DD-9D21-19C2FF82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DB5-0819-4807-B3A5-993F34EF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9AC-6469-4E7E-8FE4-9355FB4F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CDF-792A-4A16-AEE1-EBA9ACC9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AD9F-9A77-4BFF-AA76-D482D9FA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2ACE-A465-4181-924F-1E9B7650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1F75-4AC3-4E2B-8607-B9D70790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C685-A761-4647-AA63-A0D64FE4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BAD4-0579-4853-9EC9-D380D586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5E8E-AF55-494F-AB69-0D6E4A29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CFC8-FC27-4BCB-BBBD-0F90688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59B-D069-4F70-8C81-B19E056C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0BD5-4107-4EB7-BA16-B740BD6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9D40-0534-44A2-936D-CF28396D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9D96-9E48-4B6B-99D5-2DA92EEE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FA98-39D8-4F73-A85A-E0AC9D78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67C2-4168-4ADD-B6C3-8B4F8D1D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957-8896-4559-B701-0C1FE045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0B7-41E3-465A-809A-4D071107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33E-A2B1-45D1-9E3F-960EF6E5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B49-1D58-48D2-BDEA-62A74415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35A-B00E-4ECD-B8B8-9ADB09C8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C4F-02EA-4208-B016-E52A2AC7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A55-AC6B-43E4-A8BE-27494AD3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63E9-DF09-4421-A79E-AA2BCFD7EE6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B0E9-654E-47BB-B274-0720D589C13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5372280" cy="3648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3240" y="352440"/>
            <a:ext cx="7772400" cy="23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Tempus Sans ITC"/>
              </a:rPr>
              <a:t>POPULATION PYRAMIDS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5" name="Picture 6" descr="Pyramid with labled parts (see text links below)"/>
          <p:cNvPicPr/>
          <p:nvPr/>
        </p:nvPicPr>
        <p:blipFill>
          <a:blip r:embed="rId3"/>
          <a:stretch/>
        </p:blipFill>
        <p:spPr>
          <a:xfrm>
            <a:off x="6019920" y="3048120"/>
            <a:ext cx="2857320" cy="1866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RF5303095"/>
          <p:cNvPicPr/>
          <p:nvPr/>
        </p:nvPicPr>
        <p:blipFill>
          <a:blip r:embed="rId2"/>
          <a:srcRect l="10000" t="19577" r="13339" b="7332"/>
          <a:stretch/>
        </p:blipFill>
        <p:spPr>
          <a:xfrm>
            <a:off x="1752480" y="380880"/>
            <a:ext cx="5837400" cy="6096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26" descr="idbpyr(8)"/>
          <p:cNvPicPr/>
          <p:nvPr/>
        </p:nvPicPr>
        <p:blipFill>
          <a:blip r:embed="rId2"/>
          <a:stretch/>
        </p:blipFill>
        <p:spPr>
          <a:xfrm>
            <a:off x="0" y="1235160"/>
            <a:ext cx="9144000" cy="45781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028"/>
          <p:cNvSpPr/>
          <p:nvPr/>
        </p:nvSpPr>
        <p:spPr>
          <a:xfrm>
            <a:off x="685800" y="165240"/>
            <a:ext cx="777240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Beehive-shaped Pyramid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77240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Beehive-shaped Pyramid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9" name="Picture 3" descr="idbpyr(8)"/>
          <p:cNvPicPr/>
          <p:nvPr/>
        </p:nvPicPr>
        <p:blipFill>
          <a:blip r:embed="rId2"/>
          <a:stretch/>
        </p:blipFill>
        <p:spPr>
          <a:xfrm>
            <a:off x="2666880" y="4572000"/>
            <a:ext cx="4191120" cy="2098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189000" y="958680"/>
            <a:ext cx="876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, 20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pe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Rocket-shaped / Narrow Bas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–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ow Birth Rates, Slow pop grow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r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proportion of working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, 15-59 yr old - larg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of economically active po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Ratio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Balanced pyrami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idbpyr(5)"/>
          <p:cNvPicPr/>
          <p:nvPr/>
        </p:nvPicPr>
        <p:blipFill>
          <a:blip r:embed="rId2"/>
          <a:stretch/>
        </p:blipFill>
        <p:spPr>
          <a:xfrm>
            <a:off x="533520" y="228600"/>
            <a:ext cx="6900840" cy="281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idbpyr(6)"/>
          <p:cNvPicPr/>
          <p:nvPr/>
        </p:nvPicPr>
        <p:blipFill>
          <a:blip r:embed="rId3"/>
          <a:stretch/>
        </p:blipFill>
        <p:spPr>
          <a:xfrm>
            <a:off x="533520" y="3276720"/>
            <a:ext cx="6943680" cy="3276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7355160" y="1170000"/>
            <a:ext cx="182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ong Ko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7585200" y="4384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aiw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idbpyr(12)"/>
          <p:cNvPicPr/>
          <p:nvPr/>
        </p:nvPicPr>
        <p:blipFill>
          <a:blip r:embed="rId2"/>
          <a:stretch/>
        </p:blipFill>
        <p:spPr>
          <a:xfrm>
            <a:off x="380880" y="1239840"/>
            <a:ext cx="8382240" cy="5110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685800" y="230040"/>
            <a:ext cx="807732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Rectangular-shaped Pyramid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772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Rectangular Pyramid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8" name="Picture 3" descr="idbpyr(12)"/>
          <p:cNvPicPr/>
          <p:nvPr/>
        </p:nvPicPr>
        <p:blipFill>
          <a:blip r:embed="rId2"/>
          <a:stretch/>
        </p:blipFill>
        <p:spPr>
          <a:xfrm>
            <a:off x="4038480" y="4854600"/>
            <a:ext cx="2743200" cy="2003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89000" y="907920"/>
            <a:ext cx="8762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therlands, 20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pe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Rectangular-shaped - Zero Pop Grow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Narrow Base - Low Birth R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- Life-expectancy is high e.g. 80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- Low death r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r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s of equal length - Bala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Ratio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Balance pyramid - Balance Sex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Rat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idbpyr(8)"/>
          <p:cNvPicPr/>
          <p:nvPr/>
        </p:nvPicPr>
        <p:blipFill>
          <a:blip r:embed="rId2"/>
          <a:stretch/>
        </p:blipFill>
        <p:spPr>
          <a:xfrm>
            <a:off x="1981080" y="380880"/>
            <a:ext cx="495324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idbpyr(12)"/>
          <p:cNvPicPr/>
          <p:nvPr/>
        </p:nvPicPr>
        <p:blipFill>
          <a:blip r:embed="rId3"/>
          <a:stretch/>
        </p:blipFill>
        <p:spPr>
          <a:xfrm>
            <a:off x="1981080" y="3848040"/>
            <a:ext cx="4977000" cy="2781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7075440" y="1530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K 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6963840" y="485316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etherlan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e-(threepatterns)"/>
          <p:cNvPicPr/>
          <p:nvPr/>
        </p:nvPicPr>
        <p:blipFill>
          <a:blip r:embed="rId2"/>
          <a:stretch/>
        </p:blipFill>
        <p:spPr>
          <a:xfrm>
            <a:off x="0" y="628560"/>
            <a:ext cx="9144000" cy="5315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e-09(age-sex_structrs)"/>
          <p:cNvPicPr/>
          <p:nvPr/>
        </p:nvPicPr>
        <p:blipFill>
          <a:blip r:embed="rId2"/>
          <a:stretch/>
        </p:blipFill>
        <p:spPr>
          <a:xfrm>
            <a:off x="0" y="1752480"/>
            <a:ext cx="8839080" cy="2370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28600" y="628560"/>
            <a:ext cx="853452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empus Sans ITC"/>
              </a:rPr>
              <a:t>Population Pyramids in Transi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Each pyramid tells a story about the </a:t>
            </a:r>
            <a:br>
              <a:rPr sz="5400"/>
            </a:b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past</a:t>
            </a: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,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present</a:t>
            </a: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 &amp; </a:t>
            </a: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future</a:t>
            </a: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4c2b"/>
                </a:solidFill>
                <a:latin typeface="Arial"/>
              </a:rPr>
              <a:t>of a country &amp; its people.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empus Sans ITC"/>
              </a:rPr>
              <a:t>Objectiv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is a population pyramid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OW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to read a population pyramid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ecognis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HAPE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of population pyramids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MPORTANCE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of population pyramid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564840"/>
            <a:ext cx="9144000" cy="89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empus Sans ITC"/>
              </a:rPr>
              <a:t>Importance of Population Pyramid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licy Planning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~ future housing est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~ future schoo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~ future job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mparison with other countr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~ developed (US) vs developing (India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What is a population pyramid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t is a diagram that gives information about the proportion of males and females in each age grou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how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proportion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ng people (0 -14 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proportion of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orking people (15 – 59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proportion of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derly people (60+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5000"/>
            <a:ext cx="845820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What is a population pyramid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334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2039040" y="1162080"/>
            <a:ext cx="48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tical Axis - Age Group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38080" y="6278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izontal Axis – Percentage / numb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Oval 8"/>
          <p:cNvSpPr/>
          <p:nvPr/>
        </p:nvSpPr>
        <p:spPr>
          <a:xfrm>
            <a:off x="0" y="1143000"/>
            <a:ext cx="9144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Oval 9"/>
          <p:cNvSpPr/>
          <p:nvPr/>
        </p:nvSpPr>
        <p:spPr>
          <a:xfrm>
            <a:off x="8053560" y="1143000"/>
            <a:ext cx="9144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4876920" y="495288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250240" y="4842000"/>
            <a:ext cx="2593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oung depend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4876920" y="289548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241960" y="3622680"/>
            <a:ext cx="2987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Working popul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4952880" y="17524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247720" y="1946160"/>
            <a:ext cx="26967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lderly depend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880" y="609480"/>
            <a:ext cx="8646840" cy="85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empus Sans ITC"/>
              </a:rPr>
              <a:t>How to read a population pyramid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tle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e.g. country or city or racial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mment on gener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hape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of the pyrami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t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rtion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f people in various age group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t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x rat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et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the dat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2640" y="132840"/>
            <a:ext cx="7427880" cy="100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empus Sans ITC"/>
              </a:rPr>
              <a:t>Types of Population Pyrami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39640"/>
            <a:ext cx="807732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1. Triangular-shape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2. Beehive-shaped Pyrami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3. Rectangular-shaped Pyramid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Shape of pyramids is controlled by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births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deaths, &amp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migration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146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Triangular-shaped Pyramid</a:t>
            </a:r>
            <a:br>
              <a:rPr sz="4800"/>
            </a:b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(Broad-based Pyramid)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634600" cy="4322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4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empus Sans ITC"/>
              </a:rPr>
              <a:t>Broad-based Pyramid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200400" y="5014800"/>
            <a:ext cx="3681360" cy="1843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80880" y="90000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: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dia, 20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pe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Broad Base  -  high birth r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Narrow Top  -  small elderly po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-  high death r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rtion: -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arge proportion of yo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igh young dependency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Ratio: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Balance pyramid - Balance sex rat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idbpyr(2)"/>
          <p:cNvPicPr/>
          <p:nvPr/>
        </p:nvPicPr>
        <p:blipFill>
          <a:blip r:embed="rId2"/>
          <a:stretch/>
        </p:blipFill>
        <p:spPr>
          <a:xfrm>
            <a:off x="533520" y="304920"/>
            <a:ext cx="6686280" cy="30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idbpyr(4)"/>
          <p:cNvPicPr/>
          <p:nvPr/>
        </p:nvPicPr>
        <p:blipFill>
          <a:blip r:embed="rId3"/>
          <a:stretch/>
        </p:blipFill>
        <p:spPr>
          <a:xfrm>
            <a:off x="609480" y="3581280"/>
            <a:ext cx="6705720" cy="2971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251120" y="143676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273800" y="4643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lays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05:25:04Z</dcterms:created>
  <dc:creator>xms</dc:creator>
  <dc:description/>
  <dc:language>en-US</dc:language>
  <cp:lastModifiedBy>Jason Malbon</cp:lastModifiedBy>
  <cp:lastPrinted>2001-01-18T00:29:23Z</cp:lastPrinted>
  <dcterms:modified xsi:type="dcterms:W3CDTF">2012-04-25T22:06:08Z</dcterms:modified>
  <cp:revision>69</cp:revision>
  <dc:subject/>
  <dc:title>POPULATION PYRAMIDS</dc:title>
</cp:coreProperties>
</file>